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316-DC15-4C58-AD56-E75F465B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256-6042-4EB4-BCED-D9830BF5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8CE-1448-4201-8EE1-BAA32925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04D-1065-4E70-8038-F6E825A8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5257-0D54-4BA1-98BD-49136A8E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45D7-F81A-47E8-8CB5-C4E593A4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0593-76AE-435A-A665-60D48905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A552-F48C-4E1A-BE12-4388D3FC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1F95-A95F-46B8-9176-A302432E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5961-FC46-4234-86E0-2383E990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E160-6E90-4CA1-8DE0-884C45F3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D99-1CC9-413D-ACFF-1FE6D308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F007-BFFE-4310-A469-72BE080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9A6E-168A-4E7B-B27C-635D980B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770D-2759-47A7-B8F9-65FFAB63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399B-0F68-4C0D-A0D7-2BA3BC05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65A6-DE93-4FCE-9C1D-17069A45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FFE-1AB5-4AAB-9175-AF5A1A38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4E5-BA00-4155-98F7-C0ADFD54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B0F-6AB9-4B86-9F90-6ED9C69B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68A-46CD-4E47-9ECE-A43F2211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7FE-4779-49E7-948A-C683E3DA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D20-7B20-4F23-B81C-1538D8C1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0E2-3723-4FD5-A023-00C1541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12BE-836F-4559-8D36-91503DFDA81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972A-ADEA-4054-9B9C-1DE56DF2050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a level fore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alistic scientist handle on the timing and magnitude of sea level sea over this century remains a moving target. Human-induced climate change can lead to sea level rise by heating of the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638680" y="42292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304812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faces, causing the water to expand (thermal expansion). Or it may occur through melting of land-based glaciers and ice caps or the melting and disintegration of polar ice she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en V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8:27:23Z</dcterms:created>
  <dc:creator>PA Department of Education</dc:creator>
  <dc:description/>
  <dc:language>en-US</dc:language>
  <cp:lastModifiedBy>PA Department of Education</cp:lastModifiedBy>
  <dcterms:modified xsi:type="dcterms:W3CDTF">2009-05-29T18:37:56Z</dcterms:modified>
  <cp:revision>5</cp:revision>
  <dc:subject/>
  <dc:title>Sea level forecasting</dc:title>
</cp:coreProperties>
</file>